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E8A-A7B8-4E1C-974E-0C7BDDF3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918-8B0C-4BCE-B1A7-F25BFC2D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26E-515D-45AB-B58E-F9F9958A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06F-92FF-4190-9C69-E727C473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452F-F26F-4ACD-AF8B-94FFA07D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A8AA-D99D-4BFC-8143-E135BF55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E2F3-4633-4E3B-8608-E5E32FBA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3B98-CCFD-4C86-89E1-0ACE4FC9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207C-E9C6-4F9E-A92E-2CC4C5AB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E1CD-719C-474E-A6B9-948B205E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0A06-597C-4B8D-96D3-F4940D14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17B-81A2-47F9-A99A-EDD09B88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CC03-05FF-4840-8190-ECBC92E8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343D-A71C-4C37-BB03-81499978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39EC-AB6A-449B-80BD-5CAD48C3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15DF-6F37-474A-83FC-3603E5DB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4E48-8816-4942-8177-B68007DF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65CBE-1ED2-4092-9886-8EB887FD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004E3-8390-4533-B57B-19AC2A66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BA9CE-DC38-412F-93C9-4D25BFAD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976BD-7DA0-4813-9944-AD5DE04B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44AD7-3399-4633-B57C-695479BD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060-6278-46E7-98EF-F35F2324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3FD3D-02BE-48BC-8CF3-E91B88FD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24C69-FB67-4136-9574-8D82B178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D3A19-04D6-41E4-B39B-C201696B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6C458-DC71-4415-ADEE-68C96FB6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C30D9-65E4-4BE4-9073-07C99BC5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F93E1-18C4-4AC8-AB5F-5A4B9821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6D7C7-6795-477B-B212-39CD2F62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EE6F-A412-4217-B70F-B4B1A4FD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8A2FC-4EB3-486C-AE8E-6A122808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F6A6-DF82-45CB-A280-458F1614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928-58F3-4A8A-B336-172F5DFC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DAA67-3514-476F-B17A-0E26F769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22E99-9E49-49F2-9691-EB111E97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6B22-9054-455E-91C7-D82BFA00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0667B-CD6D-4E2A-9EAE-177F392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3885-C96A-4072-9955-9E4D650A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1523E-52F2-4950-9E7E-5E4F05CC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A05B-B700-4F73-83F5-9571FCF4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A203A-BC06-4BC2-A951-57870C2B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8A671-0F45-4FAD-9439-A9F4B829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2557D-42D4-4163-80E4-63F2F8ED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AAF-30E5-482F-9DC9-DC1B71B5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3D7D5-8A91-4BDE-93CF-8B1DDE3D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50930-62FF-4163-AF49-6CB9C0AE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CF482-FDA8-46B4-BDB8-F44AB97B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64649-2EB8-4A2B-861B-49D09F57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B9ECC-8036-4B76-BF54-8D23C3D0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754BC-ED88-4A51-8413-7B269503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7E763-0B9F-4BC2-AC65-298164D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94989-C031-4060-8EC8-19A7D161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B397F-03AB-4B98-8B87-2DBD3DC4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5E529-1344-4C58-88B7-BE05D680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FA3-A4D1-4371-98E0-6AD534E2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F1D10-7851-41FC-B2E2-AD224C6F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95D23C-3CE0-4462-95B9-91CF5CB6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3DAF6-3088-4E7C-986E-E613F49D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7F126-F3C3-481C-A644-64D2BD08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4B2F3-BD65-435C-AE37-5452EBF4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93520-2EDF-4FFF-9678-41E37D8F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3512B-F618-4EF8-B233-6F75EEB6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43CCF-01B6-41DE-9923-88EFDA8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BCA68-CD1F-47F8-B5E4-2C066AAA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917F1-B4A3-4807-B38C-A3486528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A87-6C78-4E6B-BA11-DDEFA318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E7F792-7FF4-428C-A3F6-FDE1F03A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591DD-AF99-4D37-BB7F-2CA095D5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8BBA3-FA1E-4387-BF01-D0CAA083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75AF4-B22F-40E7-B363-51AFF8B6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753D1-A34C-4CC3-95FC-B6F3DF98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AAAEE3-B5DE-4FC3-89E8-936438AB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5E5F1-05B4-413C-9B55-C05E53B8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1BD34-6F0D-47C5-A393-2EADBF12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FB05C-C61F-458F-824B-39FF7FFD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F2B29-920E-4657-97D4-6154D18E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E5A-66D1-44FD-A4FC-E0D05C0F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836CC-F7F8-458E-B55E-6277CA7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D1532-7520-4AB9-BCA9-F16C1A81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F9F3C2-E11E-4D43-8135-3F981ACC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C5986-F797-4BA0-89C7-89E17B1A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9CAC4-7F0E-487D-B585-8B360327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E59-BC32-49D0-AFBC-5EBFF729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7AA0-0785-4A67-800F-971258A9B30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E7B-5784-4677-8CA4-A8D10BF0E9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E28B-CACA-4A23-A65D-4EC08FA5405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4BC-D6B5-4ABA-BD49-F7D2B4FF2F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F66C-6BD8-41DD-B341-16A4DC349C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9CF2-7DC9-495D-87C1-6F942D3EDF7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27F5-A881-4E03-AAE4-51BD4348783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642600"/>
            <a:ext cx="61722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Monotype Corsiva"/>
              </a:rPr>
              <a:t>СИММЕТРИЯ ВОКРУГ НАС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74674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ВСЕ ЦЕРКВИ, ХРАМЫ И МЕЧЕТИ ПОСТРОЕНЫ НА СИММЕТРИИ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ИМЕЮТ ОСИ И ЦЕНТРЫ СИММЕТРИ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Содержимое 3" descr="220px-NotreDameDeParis.jpg"/>
          <p:cNvPicPr/>
          <p:nvPr/>
        </p:nvPicPr>
        <p:blipFill>
          <a:blip r:embed="rId1"/>
          <a:stretch/>
        </p:blipFill>
        <p:spPr>
          <a:xfrm>
            <a:off x="428760" y="2000160"/>
            <a:ext cx="2636640" cy="35006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800px-Badshahi_Mosque_July_1_2005_pic32_by_Ali_Imran_(1).jpg"/>
          <p:cNvPicPr/>
          <p:nvPr/>
        </p:nvPicPr>
        <p:blipFill>
          <a:blip r:embed="rId2"/>
          <a:stretch/>
        </p:blipFill>
        <p:spPr>
          <a:xfrm>
            <a:off x="3071880" y="2857680"/>
            <a:ext cx="5786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ВОД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ПОРЦИЯ, КОТОРАЯ ПРИСУТСТВУЕТ В СИММЕТРИИ , ВНОСИТ КРАСОТУ  В АРХИТЕКТУРУ.</a:t>
            </a:r>
            <a:br>
              <a:rPr sz="2400"/>
            </a:br>
            <a:r>
              <a:rPr b="1" lang="ru-RU" sz="2400" spc="-1" strike="noStrike">
                <a:solidFill>
                  <a:srgbClr val="e75c01"/>
                </a:solidFill>
                <a:latin typeface="Monotype Corsiva"/>
              </a:rPr>
              <a:t>СИММЕТРИЯ-ДУША  ГАРМОНИИ</a:t>
            </a:r>
            <a:r>
              <a:rPr b="1" lang="ru-RU" sz="2800" spc="-1" strike="noStrike">
                <a:solidFill>
                  <a:srgbClr val="e75c01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Содержимое 7" descr="IMG_2072"/>
          <p:cNvPicPr/>
          <p:nvPr/>
        </p:nvPicPr>
        <p:blipFill>
          <a:blip r:embed="rId1"/>
          <a:srcRect l="16838" t="0" r="17008" b="24562"/>
          <a:stretch/>
        </p:blipFill>
        <p:spPr>
          <a:xfrm>
            <a:off x="214200" y="2143080"/>
            <a:ext cx="3929040" cy="31431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8" descr="DSCN1263"/>
          <p:cNvPicPr/>
          <p:nvPr/>
        </p:nvPicPr>
        <p:blipFill>
          <a:blip r:embed="rId2"/>
          <a:srcRect l="0" t="9699" r="6199" b="7888"/>
          <a:stretch/>
        </p:blipFill>
        <p:spPr>
          <a:xfrm>
            <a:off x="4500720" y="2000160"/>
            <a:ext cx="3786120" cy="31435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9" descr="DSC04811"/>
          <p:cNvPicPr/>
          <p:nvPr/>
        </p:nvPicPr>
        <p:blipFill>
          <a:blip r:embed="rId3"/>
          <a:stretch/>
        </p:blipFill>
        <p:spPr>
          <a:xfrm>
            <a:off x="3214800" y="4357800"/>
            <a:ext cx="27860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75c01"/>
                </a:solidFill>
                <a:latin typeface="Monotype Corsiva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ЦЕЛИ НАШИХ ИССЛЕДОВАНИЙ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, где в окружающем нас мире встречается симметр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работать в коллективе и с печатными источниками информаци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5640" y="928440"/>
            <a:ext cx="642924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5c01"/>
                </a:solidFill>
                <a:latin typeface="Monotype Corsiva"/>
              </a:rPr>
              <a:t>СИММЕТРИЯ  В  АРХИТЕКТУРЕ</a:t>
            </a:r>
            <a:r>
              <a:rPr b="1" lang="ru-RU" sz="3600" spc="-1" strike="noStrike">
                <a:solidFill>
                  <a:srgbClr val="e75c01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5714640" y="4143240"/>
            <a:ext cx="3143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ыполнил учени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 ого  класса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ОУ гимназия №4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амиков Рамис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Рисунок 3" descr="P1050825.JPG"/>
          <p:cNvPicPr/>
          <p:nvPr/>
        </p:nvPicPr>
        <p:blipFill>
          <a:blip r:embed="rId1"/>
          <a:stretch/>
        </p:blipFill>
        <p:spPr>
          <a:xfrm>
            <a:off x="2279520" y="3352680"/>
            <a:ext cx="31575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ИММЕТРИЯ- ОТ ГРЕЧ. «SYMMETRIA 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СОРАЗМЕРНОСТЬ, ПРОПОРЦИОНАЛЬНОСТ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3" descr="384528_86.jpg"/>
          <p:cNvPicPr/>
          <p:nvPr/>
        </p:nvPicPr>
        <p:blipFill>
          <a:blip r:embed="rId1"/>
          <a:stretch/>
        </p:blipFill>
        <p:spPr>
          <a:xfrm>
            <a:off x="523800" y="1901880"/>
            <a:ext cx="4449960" cy="43765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149621_59.jpg"/>
          <p:cNvPicPr/>
          <p:nvPr/>
        </p:nvPicPr>
        <p:blipFill>
          <a:blip r:embed="rId2"/>
          <a:stretch/>
        </p:blipFill>
        <p:spPr>
          <a:xfrm>
            <a:off x="5357880" y="1571760"/>
            <a:ext cx="339876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689616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РЕКРАСНЫЕ ОБРАЗЦЫ СИММЕТРИИ ДЕМОНСТРИРУЮТ ПРОИЗВЕДЕНИЯ АРХИТЕКТУРЫ.</a:t>
            </a:r>
            <a:br>
              <a:rPr sz="3600"/>
            </a:b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Рисунок 4" descr="i.jpeg"/>
          <p:cNvPicPr/>
          <p:nvPr/>
        </p:nvPicPr>
        <p:blipFill>
          <a:blip r:embed="rId1"/>
          <a:stretch/>
        </p:blipFill>
        <p:spPr>
          <a:xfrm>
            <a:off x="6286680" y="1500120"/>
            <a:ext cx="2160360" cy="30290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оп.jpeg"/>
          <p:cNvPicPr/>
          <p:nvPr/>
        </p:nvPicPr>
        <p:blipFill>
          <a:blip r:embed="rId2"/>
          <a:stretch/>
        </p:blipFill>
        <p:spPr>
          <a:xfrm>
            <a:off x="142920" y="1714680"/>
            <a:ext cx="3143160" cy="294624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3" descr="1364835.jpg"/>
          <p:cNvPicPr/>
          <p:nvPr/>
        </p:nvPicPr>
        <p:blipFill>
          <a:blip r:embed="rId3"/>
          <a:stretch/>
        </p:blipFill>
        <p:spPr>
          <a:xfrm>
            <a:off x="3143160" y="3571920"/>
            <a:ext cx="3071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74959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РИМЕРЫ СИММЕТРИ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Тадж-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Махал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Содержимое 9" descr="439px-Taj_02.jpg"/>
          <p:cNvPicPr/>
          <p:nvPr/>
        </p:nvPicPr>
        <p:blipFill>
          <a:blip r:embed="rId1"/>
          <a:stretch/>
        </p:blipFill>
        <p:spPr>
          <a:xfrm>
            <a:off x="2643120" y="1214280"/>
            <a:ext cx="5286600" cy="50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9717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ЕЧЕТЬ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УЛ ШАРИФ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Рисунок 11" descr="280px-Мечеть_Кул_Шариф,_2009.jpg"/>
          <p:cNvPicPr/>
          <p:nvPr/>
        </p:nvPicPr>
        <p:blipFill>
          <a:blip r:embed="rId1"/>
          <a:srcRect l="-13991" t="0" r="-13991" b="0"/>
          <a:stretch/>
        </p:blipFill>
        <p:spPr>
          <a:xfrm>
            <a:off x="1857240" y="214200"/>
            <a:ext cx="69296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85920" y="285840"/>
            <a:ext cx="271476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ЕЧЕТЬ ГАЛ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. БАВЛ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Содержимое 3" descr="IMG_2012"/>
          <p:cNvPicPr/>
          <p:nvPr/>
        </p:nvPicPr>
        <p:blipFill>
          <a:blip r:embed="rId1"/>
          <a:srcRect l="21621" t="0" r="16214" b="0"/>
          <a:stretch/>
        </p:blipFill>
        <p:spPr>
          <a:xfrm>
            <a:off x="500040" y="357120"/>
            <a:ext cx="4929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859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ХРАМ ИМЕНИ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ЕПОДОБНОГО СЕРАФИМА САРОВСКОГО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Содержимое 3" descr="IMG_2065"/>
          <p:cNvPicPr/>
          <p:nvPr/>
        </p:nvPicPr>
        <p:blipFill>
          <a:blip r:embed="rId1"/>
          <a:srcRect l="12214" t="0" r="25258" b="0"/>
          <a:stretch/>
        </p:blipFill>
        <p:spPr>
          <a:xfrm>
            <a:off x="3071880" y="428760"/>
            <a:ext cx="47862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4-27T19:02:00Z</dcterms:modified>
  <cp:revision>15</cp:revision>
  <dc:subject/>
  <dc:title>Симметрия  в  архитектуре.</dc:title>
</cp:coreProperties>
</file>